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27.png" ContentType="image/png"/>
  <Override PartName="/ppt/media/image64.png" ContentType="image/png"/>
  <Override PartName="/ppt/media/image31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58.png" ContentType="image/png"/>
  <Override PartName="/ppt/media/image21.png" ContentType="image/png"/>
  <Override PartName="/ppt/media/image19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291-3AA9-48C4-90BA-9F06CB2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04C-99BB-420B-8128-D65CA069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35F-B029-4018-951B-5B9E06E4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AE7-91BC-4EE7-8284-4E2B3C9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5C1-60DF-47AB-8DC5-6A13838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238-484A-4BD4-B0AE-5340DD36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3EE-EDB5-4824-BBAC-1022C26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A01-9DE3-4E4F-B4AD-0C30386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ADC-896C-49DE-A4B8-F1A0949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BA2-CBE8-4EE4-B02D-A8298AE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796-22BA-48AC-830B-887D745A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ABB-6854-4082-876E-14DAC1D5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3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4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4" name="earth" descr=""/>
            <p:cNvPicPr/>
            <p:nvPr/>
          </p:nvPicPr>
          <p:blipFill>
            <a:blip r:embed="rId3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160020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7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章  电子商务应用系统的建立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3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1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6FC-2C16-462C-92B5-CB7B97B74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48.xml"/><Relationship Id="rId8" Type="http://schemas.openxmlformats.org/officeDocument/2006/relationships/slide" Target="slide48.xml"/><Relationship Id="rId9" Type="http://schemas.openxmlformats.org/officeDocument/2006/relationships/slide" Target="slide48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电子商务应用系统的建立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1" action="ppaction://hlinksldjump"/>
              </a:rPr>
              <a:t>7.1  建立电子商务应用系统的一般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2" action="ppaction://hlinksldjump"/>
              </a:rPr>
              <a:t>7.2  电子商务解决方案综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3" action="ppaction://hlinksldjump"/>
              </a:rPr>
              <a:t>7.3  电子商务解决方案应用实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综述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629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2.1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IBM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3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4" action="ppaction://hlinksldjump"/>
              </a:rPr>
              <a:t>7.2.2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5" action="ppaction://hlinksldjump"/>
              </a:rPr>
              <a:t>GEIS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6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7" action="ppaction://hlinksldjump"/>
              </a:rPr>
              <a:t>7.2.3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8" action="ppaction://hlinksldjump"/>
              </a:rPr>
              <a:t>Microsoft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9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5910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553360" cy="26416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2743200" y="5334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搜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商务网站的汉化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将所有网页的默认字符编码改为简体中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修改图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对所有网页文件中的文字、按钮进行汉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5100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271680" cy="2816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52440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2630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09680" y="5638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6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汉化效果对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">
            <a:hlinkClick r:id="rId3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>
            <a:hlinkClick r:id="" action="ppaction://hlinkshowjump?jump=endshow"/>
          </p:cNvPr>
          <p:cNvSpPr/>
          <p:nvPr/>
        </p:nvSpPr>
        <p:spPr>
          <a:xfrm>
            <a:off x="58435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1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IBM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38188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硬件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基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架的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术领先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集成的商务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电子商务基础设施软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Sphe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企业将内部和外部应用连接和集成起来，并轻松扩展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管理软件管理复杂电子商务应用的海量数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够帮助企业实现知识管理和远程教育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vol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能帮助企业创建电子商务所需要的安全和可用的环境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子贸易解决方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 E-Commer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 to B/B to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平台的组成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提供的系列产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提供的功能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子商务解决方案的成功案例：天津电子商务运作平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津信息港电子商务有限公司最终选择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Sp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软件平台。能够支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/3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/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n Sol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P U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A-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二十多种通用操作平台，并且可以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大型数据库很好地连接，保证了对不同类型的数据资源的充分利用（参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67660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15120" cy="3745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24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津市电子商务运作平台运作流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2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GEIS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GE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电子商务系列产品和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Integrat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AI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Interch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D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Marketpl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（外联网和交易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828800" y="1904760"/>
            <a:ext cx="586728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成功案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克莱斯勒公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中国电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JCPenne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香港东方海外运输公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3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Microsoft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78168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微软电子商务解决方案的服务内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服务               申请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储服务               数据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作系统服务       开发者服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微软的电子商务相关产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客户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微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器的应用程序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存储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数据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操作系统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对开发者的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建立电子商务应用系统的一般步骤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1.1  电子商务应用系统的概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7.1.2  电子商务应用系统的开发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微软的电子商务软件平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业版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S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特性如下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商务服务器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Commerce Ser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个性化功能和会员资格管理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Membersh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广告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分析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Analy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数据库及数据库类型无关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应用实务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3.1  运行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3" action="ppaction://hlinksldjump"/>
              </a:rPr>
              <a:t>商业版的系统需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4" action="ppaction://hlinksldjump"/>
              </a:rPr>
              <a:t>7.3.2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5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6" action="ppaction://hlinksldjump"/>
              </a:rPr>
              <a:t>商业版的安装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7" action="ppaction://hlinksldjump"/>
              </a:rPr>
              <a:t>7.3.3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8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9" action="ppaction://hlinksldjump"/>
              </a:rPr>
              <a:t>商业版的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7.3.1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运行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商业版的系统需求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硬件需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 Pentium 100 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更高频率处理器（建议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 Pentium 166 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4 MB 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议使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8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 G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用硬盘空间（建议使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D-RO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驱动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软件需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操作系统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Windows NT Server version 4.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 NT 4.0 Service Pack 3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更新版本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 NT 4.0 Option P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te Server 3.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te Server 3.0 Service Pack 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ccb3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系统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SQL Server 7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D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兼容的数据库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创建和管理辅助工具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Front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Visual InterDe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.2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商业版的安装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装注意事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微软建议不要在一台计算机上同时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QL Server 7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要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备份域控制器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D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要在安装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计算机上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Exchange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Proxy Server 2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业版安装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Server 4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Service Pack 3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Internet Explorer 4.01 Service Pack 2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T 4.0 Option Pack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网页编辑软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ual InterDev 6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indows NT 4.0 Service Pack 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虚拟内存设置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 7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 7.0 Service Pack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Client Network Utilit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，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Networ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配置为命名管道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Named Pip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打开“控制面板”的“服务”窗口，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MSDT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设置成“自动启动”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1622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s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90960" cy="3560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490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5638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ss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419720" cy="3524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38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220968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虚拟内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1338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12" descr=""/>
          <p:cNvPicPr/>
          <p:nvPr/>
        </p:nvPicPr>
        <p:blipFill>
          <a:blip r:embed="rId1"/>
          <a:srcRect l="0" t="0" r="0" b="32883"/>
          <a:stretch/>
        </p:blipFill>
        <p:spPr>
          <a:xfrm>
            <a:off x="1981080" y="1828800"/>
            <a:ext cx="5477040" cy="3117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0968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SDT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.1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应用系统的概念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58672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可将电子商务应用系统分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初级层次的电子商务应用系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级层次的电子商务应用系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层次的电子商务应用系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框图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创建一个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使用的空数据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6~7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建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OD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数据源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标准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 Commerce Edi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  SP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SI 2.5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765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848120" cy="2855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48120" y="5638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5622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159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31240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6952680" y="16765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3148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496040" cy="4273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666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324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4148280" cy="3716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143000" y="35053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943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860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130640" cy="4267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860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16692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3652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09680" y="571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e Ser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装选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529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00600" cy="3605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862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3480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0" t="0" r="4790" b="0"/>
          <a:stretch/>
        </p:blipFill>
        <p:spPr>
          <a:xfrm>
            <a:off x="2362320" y="1295280"/>
            <a:ext cx="4952880" cy="400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572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据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Site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业版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子商务示范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打开网页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用户注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选择商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认购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核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信用卡支付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查看账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528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01040" cy="3173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0574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整的电子商务应用系统构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4812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3560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2860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范网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cano Cof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6859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57840" cy="3470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362320" y="5791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注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64780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96000" cy="351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200400" y="5638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62404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24320" cy="3729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66688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6049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319720" cy="38005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514600" y="5943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6290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0000" cy="3724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20040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购物篮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74788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100480" cy="3649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2860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用卡支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7525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81600" cy="3467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057400" y="5867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账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.3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商业版的应用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33720" y="2133360"/>
            <a:ext cx="62481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新建网上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管理网上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网上书店新增商品类别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网上书店新增商品信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测试建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商务网站的汉化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新建网上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准备工作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认已安装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Server 3.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版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一个供网上书店使用的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一个数据源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.2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应用系统的开发步骤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419112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总体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功能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硬件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软件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管理网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栏输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ttp://ecserver/siteserver/ad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管理页面，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点击网页中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e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，打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页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页左侧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er Administratio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，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站管理页面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648320" cy="3208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905120" y="571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9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e Server 3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971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787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209680" y="5791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主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网站管理页面介绍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前网站列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建立新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ete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删除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ties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查看网站属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resh 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刷新网站列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601956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开启某个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关闭某个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p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测试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管理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o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重载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9862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96040" cy="3709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438280" y="5791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使用新网站向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点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选择网站类型为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Web Sit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输入网站名与显示名，单击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页文件夹存放位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输入数据库用户名和口令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网站管理员的账号和口令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完成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62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39040" cy="35478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04812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网站类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04812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2990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0968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网站名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18600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019560" cy="37018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668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数据源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设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络硬件系统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硬件设备的确定 、网络拓扑结构的选择和布线系统的设计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软件系统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操作系统的选择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系统软件的选择、数据库管理系统的选择、其他应用软件的选择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098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11" descr=""/>
          <p:cNvPicPr/>
          <p:nvPr/>
        </p:nvPicPr>
        <p:blipFill>
          <a:blip r:embed="rId1"/>
          <a:srcRect l="0" t="0" r="0" b="10758"/>
          <a:stretch/>
        </p:blipFill>
        <p:spPr>
          <a:xfrm>
            <a:off x="1295280" y="2286000"/>
            <a:ext cx="6715080" cy="2359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905120" y="5334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建立完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用网页生成向导建立网页文件和数据库文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地址栏中输入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7~7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拷贝示范网站或自定义网站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书店信息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网站所在国家与地区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页面风格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是否需要促销活动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站特性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14784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843520" cy="31464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057400" y="5638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网站生成向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3148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62800" cy="32828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286000" y="5562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生成向导的欢迎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3336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048280" cy="3844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209680" y="5791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类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2576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24240" cy="38257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438280" y="571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网站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2814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53120" cy="3352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133720" y="5562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网站所在国家（地区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3242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371840" cy="3504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20968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页面风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2576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00560" cy="3316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2860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销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3051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076720" cy="37591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057400" y="5867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特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页及应用程序的设计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由系统功能规划的结果整理出网站的内容框架和逻辑结构图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制定统一的设计规范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具体设计时要以网页的访问者为中心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计网络数据库和后台管理信息系统软件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商品属性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商品规格的数据结构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运费和手续费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增值税率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付款信用卡类型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是否需要保存订货历史纪录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站生成选项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单击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点击文件清单后面的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ere is your shopping s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可浏览新建成的空网站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6700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257800" cy="3645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981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718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05440" cy="3606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05740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描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1860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19560" cy="3782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828800" y="5943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运费和手续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528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34000" cy="3638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9810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值税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862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76840" cy="3801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133720" y="5943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支付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0862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48600" cy="36147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209680" y="5791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订货历史记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1528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3884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286000" y="5715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生成内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4909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62720" cy="34927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36232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网站的主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管理网上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准备工作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打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Booksto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网站的管理网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上书店管理的网页功能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申请域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企业域名、查重域名、注册国内域名、注册国际域名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器上发布已设计好的企业网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系统测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连接测试、网页测试、网站功能测试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2529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738760" cy="31482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9051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上书店的管理网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为网上书店新增商品类别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1532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增加商品类别页面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填写商品类别信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添加其他商品类别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432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95880" cy="2819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362320" y="5410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加商品类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17196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972400" cy="2701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59092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写商品类别信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1478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91240" cy="27212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20968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商品类别后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为网上书店新增商品信息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商品信息管理页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编辑页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输入其他商品信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0243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48240" cy="28908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05740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信息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69064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8080" cy="4218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514600" y="5867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商品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1100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186600" cy="34858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6688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商品信息后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测试建立的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新建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书店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浏览陈列商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新用户注册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注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核对购物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56272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的管理与维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的宣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的监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页的更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应答与复函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1240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339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3372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了商品后的网站主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812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95880" cy="3543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2096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付款前要求注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49092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02200" cy="49532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3808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5812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81360" cy="4724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2952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089840" y="12952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用户注册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862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16984" r="0" b="0"/>
          <a:stretch/>
        </p:blipFill>
        <p:spPr>
          <a:xfrm>
            <a:off x="1371600" y="1828800"/>
            <a:ext cx="6629400" cy="27147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057400" y="5105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对购物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定商品配送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认送货地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输入信用卡信息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查看账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商品搜索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5910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511280" y="1600200"/>
            <a:ext cx="546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配送方法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7454880" y="144792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送货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8954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34278" b="6861"/>
          <a:stretch/>
        </p:blipFill>
        <p:spPr>
          <a:xfrm>
            <a:off x="1523880" y="1219320"/>
            <a:ext cx="5019840" cy="5148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997680" y="1295280"/>
            <a:ext cx="546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信用卡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51928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1560" cy="2333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82880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7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易成功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909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rcRect l="0" t="0" r="0" b="5752"/>
          <a:stretch/>
        </p:blipFill>
        <p:spPr>
          <a:xfrm>
            <a:off x="1066680" y="1600200"/>
            <a:ext cx="6934320" cy="33782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981080" y="5486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账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2:10:20Z</dcterms:created>
  <dc:creator>新人电脑</dc:creator>
  <dc:description/>
  <dc:language>en-US</dc:language>
  <cp:lastModifiedBy>新人电脑</cp:lastModifiedBy>
  <dcterms:modified xsi:type="dcterms:W3CDTF">2002-02-01T04:18:55Z</dcterms:modified>
  <cp:revision>21</cp:revision>
  <dc:subject/>
  <dc:title>第7章  电子商务应用系统的建立 </dc:title>
</cp:coreProperties>
</file>